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632F-E936-4A60-BC8A-76E7A5C4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CA9-9F21-47D5-94B3-35323338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194-715B-4670-AD5A-275C0A69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B17-D7F1-4C06-AD9B-D5D3CBFF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534-9167-4518-935E-E79292D0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083-7900-4791-B14C-BBDE9949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D14-59C2-4A9A-B279-8A0A379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9BB-3DB7-4BE1-9B99-E96C023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ACC-591C-4761-B9D6-ED3AC984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CDE-84C9-461D-B0B3-52D8361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77D-C2C1-416C-B046-097BD20A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ECB-BB4C-4B33-A6B6-ABBF5491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002C-8C8C-40F2-865E-9EF79249EB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ndee Bowlers 2"/>
          <p:cNvPicPr/>
          <p:nvPr/>
        </p:nvPicPr>
        <p:blipFill>
          <a:blip r:embed="rId1"/>
          <a:stretch/>
        </p:blipFill>
        <p:spPr>
          <a:xfrm>
            <a:off x="6537240" y="26028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ndee Ex Presidents"/>
          <p:cNvPicPr/>
          <p:nvPr/>
        </p:nvPicPr>
        <p:blipFill>
          <a:blip r:embed="rId2"/>
          <a:stretch/>
        </p:blipFill>
        <p:spPr>
          <a:xfrm>
            <a:off x="8193240" y="2602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YSIDE  TRANSPORT  WKS         WHITFIELD  PARK  PUBLIC             YORKSHIRE  IMP.  WORKS            DUNDEE  BOWLERS                    DUNDEE  BOWLERS                  DUNDE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undee Bowlers 1"/>
          <p:cNvPicPr/>
          <p:nvPr/>
        </p:nvPicPr>
        <p:blipFill>
          <a:blip r:embed="rId3"/>
          <a:stretch/>
        </p:blipFill>
        <p:spPr>
          <a:xfrm>
            <a:off x="4952880" y="18900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Whitfield Park"/>
          <p:cNvPicPr/>
          <p:nvPr/>
        </p:nvPicPr>
        <p:blipFill>
          <a:blip r:embed="rId4"/>
          <a:stretch/>
        </p:blipFill>
        <p:spPr>
          <a:xfrm>
            <a:off x="1857240" y="18900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Yorkshire Imperial"/>
          <p:cNvPicPr/>
          <p:nvPr/>
        </p:nvPicPr>
        <p:blipFill>
          <a:blip r:embed="rId5"/>
          <a:stretch/>
        </p:blipFill>
        <p:spPr>
          <a:xfrm>
            <a:off x="3513240" y="404640"/>
            <a:ext cx="111600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ayside Transport.jpg"/>
          <p:cNvPicPr/>
          <p:nvPr/>
        </p:nvPicPr>
        <p:blipFill>
          <a:blip r:embed="rId6"/>
          <a:stretch/>
        </p:blipFill>
        <p:spPr>
          <a:xfrm>
            <a:off x="344520" y="549360"/>
            <a:ext cx="86040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318960" y="184464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1855800" y="1838160"/>
            <a:ext cx="122076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9"/>
          <a:stretch/>
        </p:blipFill>
        <p:spPr>
          <a:xfrm>
            <a:off x="3465360" y="18334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0"/>
          <a:stretch/>
        </p:blipFill>
        <p:spPr>
          <a:xfrm>
            <a:off x="4935600" y="1844640"/>
            <a:ext cx="122400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11"/>
          <a:stretch/>
        </p:blipFill>
        <p:spPr>
          <a:xfrm>
            <a:off x="6588000" y="1938240"/>
            <a:ext cx="104616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12"/>
          <a:stretch/>
        </p:blipFill>
        <p:spPr>
          <a:xfrm rot="11935800">
            <a:off x="8097480" y="1956960"/>
            <a:ext cx="98748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480" y="3133800"/>
            <a:ext cx="950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UNDEE &amp; DISTRICT BOWLERS 1922            CITY OF DUNDEE BOWLERS 1930                  CITY OF DUNDEE BOWLERS 1932           CITY OF DUNDEE BOWLERS 1948                       DUNDEE PRINTERS B.C                      DUNDEE EX PRESIDENTS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3"/>
          <a:stretch/>
        </p:blipFill>
        <p:spPr>
          <a:xfrm>
            <a:off x="458640" y="3556080"/>
            <a:ext cx="993960" cy="10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2049480" y="3632040"/>
            <a:ext cx="833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15"/>
          <a:stretch/>
        </p:blipFill>
        <p:spPr>
          <a:xfrm>
            <a:off x="3795840" y="3565440"/>
            <a:ext cx="744480" cy="99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16"/>
          <a:stretch/>
        </p:blipFill>
        <p:spPr>
          <a:xfrm>
            <a:off x="5024520" y="36399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7"/>
          <a:stretch/>
        </p:blipFill>
        <p:spPr>
          <a:xfrm>
            <a:off x="6345360" y="3714840"/>
            <a:ext cx="966600" cy="69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18"/>
          <a:stretch/>
        </p:blipFill>
        <p:spPr>
          <a:xfrm>
            <a:off x="7832880" y="3586320"/>
            <a:ext cx="101124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128520" y="4653000"/>
            <a:ext cx="921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YSIDE B.L                                                  TAYSIDE B.L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DUNDEE B.A                                    CITY OF DUNDEE                      DUNDEE BLINDCRAFT BOWLERS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SOUTH AFRICAN BAD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9:35:05Z</dcterms:created>
  <dc:creator>JY</dc:creator>
  <dc:description/>
  <dc:language>en-US</dc:language>
  <cp:lastModifiedBy>Cooper</cp:lastModifiedBy>
  <dcterms:modified xsi:type="dcterms:W3CDTF">2015-05-12T16:03:17Z</dcterms:modified>
  <cp:revision>11</cp:revision>
  <dc:subject/>
  <dc:title>Slide 1</dc:title>
</cp:coreProperties>
</file>